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78A9E-C393-4EEF-95FC-676A5412DF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minar on</a:t>
            </a: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ansplantation Immunology: Organ and Tissue Transplantation Immunosuppressive Agents, Immunosuppressive Therap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r.Pratap J. Pat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eptt. Of Zo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.T.M. Nagpur University, Nagp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ivation of Alloreactive T cells and Rejection of Allograf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le of CD4+ and CD8+ T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D4+ differentiate into cytokine producing effector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mage graft by reactions similar to D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D8+ cells activated by direct pathway kill nucleated cells in the gra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D8+ cells activated by the indirect pathway are self MHC-restric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le of Cytokines in Graft R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L – 2, IFN – , and TNF -  are important mediators of graft rej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L – α promotes T-cell proliferation and generation of T – Lymphocy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N -  is central to the development of DTH respon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NF -  has direct cytotoxic effect on the cells of graf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umber of cytokines promote graft rejection by inducing expression of class – I or class – II MHC molecule on graft ce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terferon (α,  and ), TNF – α and TNF -  all increases class – I MHC expression, and IFN -  increases class – II MHC expression as we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ffector Mechanisms of Allograft Rejec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peracute R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ute R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nic R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yperacute R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haracterized by thrombotic occlusion of the gra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egins within minutes or hours after anastamo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e-existing antibodies in the host circulation bind to donor endothelial antige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ctivates Complement Casca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Xenograft Respon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yperacute R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. Preformed Ab,  2. complement activation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. neutrophil margination, 4. inflammation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. Thrombosis 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ute R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scular and parenchymal injury mediated by T cells and antibodies that usually begin after the first week of transplantation if there is no immunosuppressant thera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idence is high (30%) for the first 90 d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ute R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-cell, macrophage and Ab mediated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ocyte and endothelial damage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lam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nic R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curs in most solid organ transpl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dn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acterized by fibrosis and vascular abnormalities with loss of graft function over a prolonged perio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nic R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crophage – T cell medi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ntric medial hyperplas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nic DTH re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nt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munology of Transplant R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issue and Organ Transpla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munosuppressive Ag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munosuppressive Thera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efer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ssue and Organ Transpla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day it is possible to transplant many different organs and tissues includ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common transplantation is blood transfu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ne Marrow transpla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gans : Heart, kidneys, pancrease, lungs, liver and intesti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ssues :  include bones, corneas, skin, heart values, veins, cartilage and other connective tissu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Common Transplant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Blood Transfusion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f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transfu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ne Marrow Transpla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d for Leukemia, Anemia and immunodeficiency, especially severe combined immunodeficiency (SCID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ut 109 cells per kilogram of host body weight, is injected intravenously into the recipi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ipient of a bone marrow transplant is immunologically suppressed before graf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g. Leukemia patients are often treated with cyclo-phosphamide and total body irradiation to kill all cancerous ce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the donor bone marrow contains immunocompetent cells, the graft may reject the host, causing graft versus host disease (GVHD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ft vs. Host Dise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used by the reaction of grafted mature T-cells in the marrow inoculum with alloantigens of the ho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ute GVH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acterized by epithelial cell death in the skin, GI tract, and li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nic GVH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acterized by atrophy and fibrosis of one or more of these same target organs as well as the lu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rt Transplantation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heart transplant in South Africa by Dr. Christian Barnard in 196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year survival rate is &gt;80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LA matching is desirable but not often possible, because of the limited supply of heart and the urgency of the proced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ng Transplantation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attempt in 1963 by Hardy and Co - work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successful transplantation by Toronto group in 198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conjunction with heart transplantation, to treat diseases such as cystic fibrosis and emphysema or acute damage to lu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year survival rate is about 60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dney Transplantation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eases like diabetes and various type of nephritis can be elleviated by kidney transplant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vival rate after one  year transplantation is &gt;90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,000 candidates are waiting for kidney transplant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r transplantation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reat congenital defects and damage from viral (hepatitis) or chemical agents. (Chronic alcoholism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r one year survival exceeds 75% and five year is 70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crease Transplantation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fers a cure for diabetes mellit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ft survival is 72% at one ye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rther improved if a kidney is transplanted simultaneous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all goal - to prevent the typical diabetic secondary complic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kin grafting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used to treat burn victi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severe burn, grafts of foreign skin may be used and rejection must be prevented by the use of immunosuppressive therapy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enogeneic Transpla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ajor barrier to xenogeneic transplantation is the presence of natural antibodies that cause hyperacute rejec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munosuppressive Ag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munosuppression can be brought about by 3 different ways 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gical ab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Lymphoid Ir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munosuppressive dru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munosuppressive Dru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ree main immunosuppressant drug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yclosporins  act by inhibiting T-cell activation, thus preventing T-cells from attacking the transplanted orga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zathioprines  disrupt the synthesis of DNA and RNA and cell divis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rticosteroids such as prednisolone  suppress the inflammation associated with transplant rej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plantation immunology - sequence of events that occurs after an allograft or xenograft is removed from donor and then transplanted into a recipi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ajor limitation to the success of transplantation is the immune response of the recipient to the donor tissu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munosuppressants can also be classified depending on the specific transplan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siliximab  in combination with  cyclosporin and corticosteroids, in kidney transpla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aclizumab  in combination with cyclosporin and corticosteroids, in kidney transpla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uromonab CD3 (Orthoclone OKT3)  along with cyclosporin, in kidney, liver and heart transpla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crolimus is used in liver transplants and is under study for kidney, bone marrow, heart, pancreas, pancreatic island cell, and small bowel transplant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immunosuppressants are also used to treat a variety of autoimmune diseas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zathioprine  in treatment of rheumatoid arthritis , chronic ulcerative colitis but limited valu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yclosporin  is used in heart, liver, kidney, pancreas, bone marrow and heart/lung transplantation. Also used to treat psoriasis and rheumatoid arthritis, multiple sclerosis, diabetes and myesthenia gravi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atiramer acetate  is used in treatment of relapsing-remitting multiple sclerosi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cophenolate is used along with cyclosporin in kidney, liver and heart transplants. Also  used to prevent the kidney problems associated with lupus erythematosu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rolimus  in combination with cyclosporin and corticosteroids, in kidney transplants. The drug is also used for the treatment of psorias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munosuppressive Thera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oclonal antibod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suppress the activity of subpopulation of T-ce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block co-stimulatory sign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 to the CD3 molecule of TCR (T cell receptor) complex results in a rapid depletion of mature T-cells from the circula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 specific for the high-affinity IL-2 receptor is expressed only on activated T-cell, blocks proliferation of T-cells activated in response to the alloantigens of the graf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treat donor’s bone marrow before it is transplant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lecules present on particular T-cells subpopulation may also be targeted for immunosuppressive therap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body to CD4 shown to prolong graft surviva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 specific for implicated cytokine can prolong the survival of graf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than 50,000 people, waiting for compatible donor. For ethical an practical reasons, species closely related to human such as Chimpanzee have not been widely us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enogeneic transplantation may be major issue of research xenograft technology including genetically modified animal may become a new source of organ supp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de effects of immunosuppressive agent use for graft need a change of specificity in action and avoiding general immune suppres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chniques such as transgenic animal production and wide range of research in this field hope to result in opening a new window for the process of transplantation immunolo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er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munology by – Janis Kub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munology by – Abdul Abb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munology by – Roit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damental Immunology by – William E. Pa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ormation from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organtransplants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transweb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organdonor.we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Referenc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Immunology by – Janis Kuby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Immunology by – Abdul Abba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Immunology by – Roitt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undamental Immunology by – William E. Paul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Information from –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organtransplants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transweb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organdonor.web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ank you 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s of Transpl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ograft is self-tissue transferred from one body site to another in the same individu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ograft is tissue transferred between genetically identical individu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ograft is tissue transferred between genetically different members of the same spec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enograft is tissue transferred between different spec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munology of Transplant R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mponents of the Immune system involved in graft Rejection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) Antigen presenting cells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endritic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acroph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ctivated B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) B cells and antibodies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eformed antibod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Natural antibod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eformed antibodies from prior  sensatiz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duced antibod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) T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) Other cells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Natural killer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 cells that express NK cell – associated Mark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onocytes/Macroph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mmunology of Allogeneic Transpla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ognition of transplanted cells that are self or foreign is determined by polymorphic genes (MHC) that are inherited from both parents and are expressed co-dominantl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oantigens elicit both cell-mediated and humoral immune respons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ognition of Alloantige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rect Prese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ognition of an intact MHC molecule displayed by donor APC in the gra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ically, self MHC molecule recognizes the structure of an intact allogeneic MHC molecu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olves both CD8+ and CD4+ T ce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irect Prese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or MHC is processed and presented by    recipient AP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ically, donor MHC molecule is handled like any other foreign anti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olve only CD4+ T ce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gen presentation by class II MHC molecu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ivation of Alloreactive T cells and Rejection of Allograf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or APCs migrate to regional lymph nodes and are recognized by the recipient’s TH ce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oreactive TH cells in the recipient induce generation of TDTH cell and CTLs then migrate into the graft and cause graft rej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2D5B2-1E78-45B4-AD37-438BC21C8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46BFA-537D-4776-8938-E777EA62F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8297D-ED80-4AA0-B17E-98C6781CB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079BF-8951-49B1-9DC4-76B46A7C3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9A29C-1FE8-4EEC-A19F-3EC25057D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7D055-EEE4-40A6-AF88-12DDC9685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1D059-A355-4FC7-8186-A2DF4A6A0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52371-3733-4AC8-9F51-40B9A8129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A8CA9-95BA-4038-BC49-F2A81DB5C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54BAF-34B5-4DFF-91C5-D19567F42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32299-94E8-41BB-BC32-E3E35445C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C33BA-C5FD-43F3-B775-655AC71CA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1F1D8-ECC3-498B-A510-AB47F365B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58412-8EFC-4416-B6AE-BB82ADEB8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E23E9-A437-4352-95C2-211EFF00B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F6841-D531-459F-B664-A042C86E6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1086F-9C74-4472-A815-B89419DFB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65266-A298-46C6-9C0A-2AD5B6DB4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7F4F3-1412-49A8-A6EA-255BCED73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BA02E-9BEC-47A0-A7ED-AEF56C22D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655D4-65E4-4B54-909D-246F659B9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9F940-A037-410A-B210-7DA03C95C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5E0A7-0163-4D6B-B22C-72E2CA17B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9FBE1-07A4-47B3-8D67-F4E1BF6AB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9614E-350F-468E-AD1C-14EC0485C3A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4BF44-6AC3-4255-9026-EEB05EDB660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Seminar on</a:t>
            </a:r>
            <a:br>
              <a:rPr sz="2400"/>
            </a:br>
            <a:br>
              <a:rPr sz="24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ransplantation Immunology: Organ and Tissue Transplantation Immunosuppressive Agents, Immunosuppressive Therapy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B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Mr.Pratap J. Patl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ptt. Of Zoolog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.T.M. Nagpur University, Nagpu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914400" y="380880"/>
            <a:ext cx="6934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ctivation of Alloreactive T cells and Rejection of Allograft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28" name="Object 3"/>
          <p:cNvGraphicFramePr/>
          <p:nvPr/>
        </p:nvGraphicFramePr>
        <p:xfrm>
          <a:off x="1219320" y="2362320"/>
          <a:ext cx="6629400" cy="350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362320"/>
                    <a:ext cx="6629400" cy="35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ole of CD4</a:t>
            </a:r>
            <a:r>
              <a:rPr b="1" lang="en-US" sz="4400" spc="-1" strike="noStrike" baseline="30000">
                <a:solidFill>
                  <a:srgbClr val="e5e5ff"/>
                </a:solidFill>
                <a:latin typeface="Garamond"/>
              </a:rPr>
              <a:t>+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and CD8</a:t>
            </a:r>
            <a:r>
              <a:rPr b="1" lang="en-US" sz="4400" spc="-1" strike="noStrike" baseline="30000">
                <a:solidFill>
                  <a:srgbClr val="e5e5ff"/>
                </a:solidFill>
                <a:latin typeface="Garamond"/>
              </a:rPr>
              <a:t>+ 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 Cell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D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differentiate into cytokine producing effector ce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amage graft by reactions similar to DT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D8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cells activated by direct pathway kill nucleated cells in the graf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D8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cells activated by the indirect pathway are self MHC-restrict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ole of Cytokines in Graft Reje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82844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IL – 2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FN –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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, and TNF -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are important mediators of graft rejectio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IL – α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omotes T-cell proliferation and generation of T – Lymphocyte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IFN -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s central to the development of DTH respons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TNF -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as direct cytotoxic effect on the cells of graft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 number of cytokines promote graft rejection by inducing expression of class – I or class – II MHC molecule on graft cell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interferon (α,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), TNF – α and TNF -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all increases class – I MHC expression, and IFN -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increases class – II MHC expression as well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Effector Mechanisms of Allograft Rejection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90920" y="2666520"/>
            <a:ext cx="624816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yperacute Rejec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ute Rejec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ronic Rejec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yperacute Reje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aracterized by thrombotic occlusion of the graf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gins within minutes or hours after anastamos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e-existing antibodies in the host circulation bind to donor endothelial antige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tivates Complement Casca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Xenograft Respon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yperacute Reje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-128520" y="4836960"/>
            <a:ext cx="8756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. Preformed Ab,  2. complement activation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 neutrophil margination, 4. inflammation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5. Thrombosis form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5" descr="16_07"/>
          <p:cNvPicPr/>
          <p:nvPr/>
        </p:nvPicPr>
        <p:blipFill>
          <a:blip r:embed="rId1"/>
          <a:srcRect l="11670" t="6400" r="26736" b="71684"/>
          <a:stretch/>
        </p:blipFill>
        <p:spPr>
          <a:xfrm>
            <a:off x="689040" y="1598760"/>
            <a:ext cx="7688160" cy="305100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cute Reje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ascular and parenchymal injury mediated by T cells and antibodies that usually begin after the first week of transplantation if there is no immunosuppressant therap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idence is high (30%) for the first 90 day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16_07"/>
          <p:cNvPicPr/>
          <p:nvPr/>
        </p:nvPicPr>
        <p:blipFill>
          <a:blip r:embed="rId1"/>
          <a:srcRect l="12408" t="30977" r="26439" b="40194"/>
          <a:stretch/>
        </p:blipFill>
        <p:spPr>
          <a:xfrm>
            <a:off x="1376280" y="1211400"/>
            <a:ext cx="6616800" cy="359712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cute Reje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95280" y="4800600"/>
            <a:ext cx="7391520" cy="18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>
              <a:spcBef>
                <a:spcPts val="799"/>
              </a:spcBef>
              <a:buClr>
                <a:srgbClr val="ff00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-cell, macrophage and Ab mediated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48280" indent="-548280">
              <a:spcBef>
                <a:spcPts val="799"/>
              </a:spcBef>
              <a:buClr>
                <a:srgbClr val="ff00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yocyte and endothelial damage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48280" indent="-548280">
              <a:spcBef>
                <a:spcPts val="799"/>
              </a:spcBef>
              <a:buClr>
                <a:srgbClr val="ff00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flamm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hronic Reje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ccurs in most solid organ transpla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ear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Kidne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u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iv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aracterized by fibrosis and vascular abnormalities with loss of graft function over a prolonged peri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16_07"/>
          <p:cNvPicPr/>
          <p:nvPr/>
        </p:nvPicPr>
        <p:blipFill>
          <a:blip r:embed="rId1"/>
          <a:srcRect l="12688" t="61661" r="28317" b="9862"/>
          <a:stretch/>
        </p:blipFill>
        <p:spPr>
          <a:xfrm>
            <a:off x="1143000" y="1092240"/>
            <a:ext cx="6477120" cy="360684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hronic Reje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360" y="4647960"/>
            <a:ext cx="75438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00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crophage – T cell mediat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centric medial hyperplas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ronic DTH reac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t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troduc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mmunology of Transplant Rejec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issue and Organ Transplant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mmunosuppressive Age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mmunosuppressive Therap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clus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ferenc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issue and Organ Transplant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day it is possible to transplant many different organs and tissues includin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ost common transplantation is blood transfusi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one Marrow transplant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rgans : Heart, kidneys, pancrease, lungs, liver and intestin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issues :  include bones, corneas, skin, heart values, veins, cartilage and other connective tissu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Most Common Transplantation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-Blood Transfusion-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1"/>
          <a:srcRect l="24511" t="12706" r="23530" b="42597"/>
          <a:stretch/>
        </p:blipFill>
        <p:spPr>
          <a:xfrm>
            <a:off x="380880" y="1447920"/>
            <a:ext cx="8610840" cy="46544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4"/>
          <p:cNvSpPr/>
          <p:nvPr/>
        </p:nvSpPr>
        <p:spPr>
          <a:xfrm>
            <a:off x="838080" y="6324480"/>
            <a:ext cx="914400" cy="3049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1800000" y="6218280"/>
            <a:ext cx="167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Transfus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3505320" y="6324480"/>
            <a:ext cx="91440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4582440" y="621828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ot transfus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one Marrow Transplant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Used for Leukemia, Anemia and immunodeficiency, especially severe combined immunodeficiency (SCID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bout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Garamond"/>
              </a:rPr>
              <a:t>9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cells per kilogram of host body weight, is injected intravenously into the recipient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cipient of a bone marrow transplant is immunologically suppressed before grafting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g. Leukemia patients are often treated with cyclo-phosphamide and total body irradiation to kill all cancerous cell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ecause the donor bone marrow contains immunocompetent cells, the graft may reject the host, causing graft versus host disease (GVHD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raft vs. Host Diseas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used by the reaction of grafted mature T-cells in the marrow inoculum with alloantigens of the ho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ute GVH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haracterized by epithelial cell death in the skin, GI tract, and liv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ronic GVH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haracterized by atrophy and fibrosis of one or more of these same target organs as well as the lung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Heart Transplantation 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rst heart transplant in South Africa by Dr. Christian Barnard in 1964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ne year survival rate is &gt;80%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HLA matching is desirable but not often possible, because of the limited supply of heart and the urgency of the procedur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Lung Transplantation 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rst attempt in 1963 by Hardy and Co - worker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rst successful transplantation by Toronto group in 1983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 conjunction with heart transplantation, to treat diseases such as cystic fibrosis and emphysema or acute damage to lung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rst year survival rate is about 60%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Kidney Transplantation 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iseases like diabetes and various type of nephritis can be elleviated by kidney transplantatio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urvival rate after one  year transplantation is &gt;90%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5,000 candidates are waiting for kidney transplantatio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Liver transplantation 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t treat congenital defects and damage from viral (hepatitis) or chemical agents. (Chronic alcoholism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iver one year survival exceeds 75% and five year is 70%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457200" y="533160"/>
            <a:ext cx="8153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Pancrease Transplantation 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ffers a cure for diabetes mellitu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Graft survival is 72% at one year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urther improved if a kidney is transplanted simultaneously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verall goal - to prevent the typical diabetic secondary complication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Skin grafting 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t is used to treat burn victim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 severe burn, grafts of foreign skin may be used and rejection must be prevented by the use of immunosuppressive therapy.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Xenogeneic Transplant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880" y="27432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major barrier to xenogeneic transplantation is the presence of natural antibodies that cause hyperacute rejectio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mmunosuppressive Ag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Immunosuppression can be brought about by 3 different ways :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urgical abl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tal Lymphoid Irradi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mmunosuppressive drug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mmunosuppressive Drug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Three main immunosuppressant drug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Cyclosporins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ct by inhibiting T-cell activation, thus preventing T-cells from attacking the transplanted organ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Azathioprine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disrupt the synthesis of DNA and RNA and cell division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Corticosteroid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such as prednisolone  suppress the inflammation associated with transplant rejectio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trodu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ransplantation immunology - sequence of events that occurs after an allograft or xenograft is removed from donor and then transplanted into a recipien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major limitation to the success of transplantation is the immune response of the recipient to the donor tissue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6858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Immunosuppressants can also be classified depending on the specific transplant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Basiliximab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in combination with  cyclosporin and corticosteroids, in kidney transplants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Daclizumab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in combination with cyclosporin and corticosteroids, in kidney transplant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muromonab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D3 (Orthoclone OKT3)  along with cyclosporin, in kidney, liver and heart transplant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Tacrolimus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s used in liver transplants and is under study for kidney, bone marrow, heart, pancreas, pancreatic island cell, and small bowel transplantatio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57200" y="609480"/>
            <a:ext cx="82296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Some immunosuppressants are also used to treat a variety of autoimmune diseases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Azathioprine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in treatment of rheumatoid arthritis , chronic ulcerative colitis but limited valu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Cyclosporin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is used in heart, liver, kidney, pancreas, bone marrow and heart/lung transplantation. Also used to treat psoriasis and rheumatoid arthritis, multiple sclerosis, diabetes and myesthenia gravis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Glatiramer acetate</a:t>
            </a:r>
            <a:r>
              <a:rPr b="0" lang="en-US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is used in treatment of relapsing-remitting multiple sclerosis.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Mycophenolate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is used along with cyclosporin in kidney, liver and heart transplants. Also  used to prevent the kidney problems associated with lupus erythematosus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Sirolimus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in combination with cyclosporin and corticosteroids, in kidney transplants. The drug is also used for the treatment of psoriasi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mmunosuppressive Therap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0663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Garamond"/>
              </a:rPr>
              <a:t>Monoclonal antibodies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o suppress the activity of subpopulation of T-cell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o block co-stimulatory signal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b to the CD3 molecule of TCR (T cell receptor) complex results in a rapid depletion of mature T-cells from the circulation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b specific for the high-affinity IL-2 receptor is expressed only on activated T-cell, blocks proliferation of T-cells activated in response to the alloantigens of the graft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o treat donor’s bone marrow before it is transplanted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olecules present on particular T-cells subpopulation may also be targeted for immunosuppressive therapy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ntibody to CD4 shown to prolong graft survival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b specific for implicated cytokine can prolong the survival of graft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clus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6840" y="10663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ore than 50,000 people, waiting for compatible donor. For ethical an practical reasons, species closely related to human such as Chimpanzee have not been widely used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Xenogeneic transplantation may be major issue of research xenograft technology including genetically modified animal may become a new source of organ supply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ide effects of immunosuppressive agent use for graft need a change of specificity in action and avoiding general immune suppressio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echniques such as transgenic animal production and wide range of research in this field hope to result in opening a new window for the process of transplantation immunology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1"/>
          <p:cNvSpPr/>
          <p:nvPr/>
        </p:nvSpPr>
        <p:spPr>
          <a:xfrm>
            <a:off x="380880" y="862200"/>
            <a:ext cx="8153640" cy="51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                 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Times New Roman"/>
              </a:rPr>
              <a:t>Referenc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SzPct val="7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Immunology by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Janis Kub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SzPct val="7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Immunology by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Abdul Abba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SzPct val="7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Immunology by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Roit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SzPct val="7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Fundamental Immunology by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William E. Pau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Information from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–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SzPct val="7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www.organtransplants.or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SzPct val="7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www.transweb.or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SzPct val="7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www.organdonor.web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47920" y="26665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Garamond"/>
              </a:rPr>
              <a:t>Thank you !</a:t>
            </a:r>
            <a:endParaRPr b="1" lang="en-US" sz="7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"/>
          <p:cNvSpPr/>
          <p:nvPr/>
        </p:nvSpPr>
        <p:spPr>
          <a:xfrm>
            <a:off x="533520" y="609480"/>
            <a:ext cx="815328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Types of Transpla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Autograft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is self-tissue transferred from one body site to another in the same individual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Isograft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is tissue transferred between genetically identical individual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Allograft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is tissue transferred between genetically different members of the same specie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Xenograft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s tissue transferred between different spec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mmunology of Transplant Reje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Components of the Immune system involved in graft Rejection 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) </a:t>
            </a:r>
            <a:r>
              <a:rPr b="0" lang="en-US" sz="1800" spc="-1" strike="noStrike">
                <a:solidFill>
                  <a:srgbClr val="ff0000"/>
                </a:solidFill>
                <a:latin typeface="Garamond"/>
              </a:rPr>
              <a:t>Antigen presenting cells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–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Dendritic cell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Macrophage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ctivated B Cell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) </a:t>
            </a:r>
            <a:r>
              <a:rPr b="0" lang="en-US" sz="1800" spc="-1" strike="noStrike">
                <a:solidFill>
                  <a:srgbClr val="ff0000"/>
                </a:solidFill>
                <a:latin typeface="Garamond"/>
              </a:rPr>
              <a:t>B cells and antibodies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–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reformed antibodie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Natural antibodie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reformed antibodies from prior  sensatizatio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Induced antibodie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) </a:t>
            </a:r>
            <a:r>
              <a:rPr b="0" lang="en-US" sz="1800" spc="-1" strike="noStrike">
                <a:solidFill>
                  <a:srgbClr val="ff0000"/>
                </a:solidFill>
                <a:latin typeface="Garamond"/>
              </a:rPr>
              <a:t>T cell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) </a:t>
            </a:r>
            <a:r>
              <a:rPr b="0" lang="en-US" sz="1800" spc="-1" strike="noStrike">
                <a:solidFill>
                  <a:srgbClr val="ff0000"/>
                </a:solidFill>
                <a:latin typeface="Garamond"/>
              </a:rPr>
              <a:t>Other cells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–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Natural killer cell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 cells that express NK cell – associated Marker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Monocytes/Macrophage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The Immunology of Allogeneic Transplantat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cognition of transplanted cells that are self or foreign is determined by polymorphic genes (MHC) that are inherited from both parents and are expressed co-dominantly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oantigens elicit both cell-mediated and humoral immune response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cognition of Alloantige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Direct Present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ecognition of an intact MHC molecule displayed by donor APC in the graf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asically, self MHC molecule recognizes the structure of an intact allogeneic MHC molecul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volves both CD8</a:t>
            </a:r>
            <a:r>
              <a:rPr b="0" lang="en-US" sz="2000" spc="-1" strike="noStrike" baseline="30000">
                <a:solidFill>
                  <a:srgbClr val="ffffff"/>
                </a:solidFill>
                <a:latin typeface="Garamond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and CD4</a:t>
            </a:r>
            <a:r>
              <a:rPr b="0" lang="en-US" sz="2000" spc="-1" strike="noStrike" baseline="30000">
                <a:solidFill>
                  <a:srgbClr val="ffffff"/>
                </a:solidFill>
                <a:latin typeface="Garamond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T cell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1"/>
          <a:srcRect l="20916" t="11719" r="20255" b="66604"/>
          <a:stretch/>
        </p:blipFill>
        <p:spPr>
          <a:xfrm>
            <a:off x="1143000" y="3809880"/>
            <a:ext cx="701028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838080" y="685800"/>
            <a:ext cx="723924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Indirect Present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50000"/>
              </a:lnSpc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onor MHC is processed and presented by    recipient APC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50000"/>
              </a:lnSpc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asically, donor MHC molecule is handled like any other foreign antig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50000"/>
              </a:lnSpc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volve only CD4+ T cell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50000"/>
              </a:lnSpc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ntigen presentation by class II MHC molecule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Picture 8" descr=""/>
          <p:cNvPicPr/>
          <p:nvPr/>
        </p:nvPicPr>
        <p:blipFill>
          <a:blip r:embed="rId1"/>
          <a:srcRect l="20916" t="32948" r="20255" b="36024"/>
          <a:stretch/>
        </p:blipFill>
        <p:spPr>
          <a:xfrm>
            <a:off x="1219320" y="3809880"/>
            <a:ext cx="670536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Activation of Alloreactive T cells and Rejection of Allograft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nor APCs migrate to regional lymph nodes and are recognized by the recipient’s T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H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cell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oreactive T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H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cells in the recipient induce generation of T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DTH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cell and CTLs then migrate into the graft and cause graft rejec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12:01:14Z</dcterms:created>
  <dc:creator>Matt Stacy</dc:creator>
  <dc:description/>
  <dc:language>en-US</dc:language>
  <cp:lastModifiedBy>RomaK</cp:lastModifiedBy>
  <dcterms:modified xsi:type="dcterms:W3CDTF">2015-09-04T10:48:47Z</dcterms:modified>
  <cp:revision>57</cp:revision>
  <dc:subject/>
  <dc:title>Transplantation Immunology</dc:title>
</cp:coreProperties>
</file>